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A8B-1D9A-4F0E-A506-02A99E48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7BC-3122-4989-A6A5-2B80AE7F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A06-B564-4F2E-B715-B9DA8937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5F4-2CBC-49E2-A958-7406ED27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7A63-C98D-465C-899B-CC4A283F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53FC-4508-4E16-A557-E4A81984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9838-AFFB-4FC4-823D-C37B73CE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9786-EA06-4C75-947B-F08F92D6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620B-A168-42CD-AC26-A965F910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DB7F-CAE2-491B-8496-787C8204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7616-C9BD-4744-BF52-C0C10C40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B71-53F6-4862-90B1-6E716593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7166-F2F2-4645-98E1-8AAE8F41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AC2D-2BD7-4F2C-9263-C31D17DB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E721-3D0A-4C18-B9B5-D0D31B60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84B5-21B0-45B2-8022-0730DF48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E778-CDE4-46A7-8FE1-61AD83EB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E3F-8F84-4951-8531-B1AFBC9E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832-816F-4720-9142-FB83E2CE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58A-A61A-4645-9B6F-D1EC5838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749-7626-4C0D-A65C-B56FDC93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FDB-2D2A-4436-97FB-55996D8D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FF5-6E70-45A0-8F39-BDF62B01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E95-0F95-4B7A-88CD-409EE72F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A8E7-F529-4B7A-93F3-1E1386A91F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E778-D5F2-4680-8E81-306985114C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330066"/>
                </a:solidFill>
                <a:latin typeface="Arial"/>
              </a:rPr>
              <a:t>Превенција поремећаја здрављ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ар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Мере примарне превенције усмерене 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пшту популацију (потреба за физичком активношћу која одговара узрасту) 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јединим њеним сегментима (вакцинација одојчади или заштита деце школског узрас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1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е за што раније откривање већ насталих поремећаја здравља (откривање особа са већ узнапредовалом болешћу који су измакли пажњи здравствене служб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: успостављање нарушеног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2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ује снижавање преваленције одговарајућег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оболели (жртве болести) тј. повређене осо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 Приме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крининг, самопреглед, систематски  прегле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3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ама секундарне превенције се прелиминар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двајају особе за које постоји сумња да су оболеле (дефинитивна дијагноза је у домену клиничке медицин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Терцијарна превенција 1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7925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атолошки процес је већ одмака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тпуно излечење више није могућ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Мере терцијарне превенције 2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719360"/>
            <a:ext cx="7924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ње оштећења и неспособности 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е рехабилитације и навикавање пацијента на настало ста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Терцијарна превенција 3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нижава се учесталост компликација и умир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жртве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 Приме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довни контролни преглед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хабилитација (физичка и психич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рада проте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оремећаји здравља од којих се данас највише оболева и умир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ардиоваскуларна обољ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ереброваскуларна обољ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алигне неоплаз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рауматиз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пструктивна болест плућ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0066"/>
                </a:solidFill>
                <a:latin typeface="Arial"/>
              </a:rPr>
              <a:t>Личне навике и начин живота које утичу на учесталост најчешћих поремеђаја здрављ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уше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схрана богата мастима животињског порек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теран унос алкохо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суство физичке а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изична вож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ронични стре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Научне основе, дилеме и ограничења превенциј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пидемиолошка истраживања (интервентне или опсервационе студиј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снов за одлучивање о избору превентивних м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азнања о факторима ризика за настанак најважнијих поремећаја здравља (болести срца и к. судова, малигне неиоплазм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циј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Активности и мере везане 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напређење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чување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спостављање здравља које је наруше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пречавање или одлагање неповољног тока и исхода иреверзибилних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ратегија превентивног ра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гменти (у оперативном погледу) превентивне делат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1. сагледавање епидемиолошке ситу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2. интер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3. евалуација ефикасности интервенциј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Сагледавање епидемиолошке ситуације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вид у стање и динамику расподеле болести и здравља у популациј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ује се системом епидемиолошког надз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лив поузданих информација важ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уга традиција праћења заразних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ложеност макро и микро срединским ризици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тер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ње пажње само на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најугроженије сегменте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популације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даје ефек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ценат оболевања је највећи у групи особа најизложенијих одређеном штетном фактори, али је учешће те групе у структури те популације ма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јвећи број оболелих се региструје из категорије грађана који имају 5 х нижи ризик али којих је 20 х виш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Интервенциј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ткривање и редовно лечење свих хипертоничара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→инциденција апоплексије би се смањила за 15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Просечно снижење хипертензије за 5 % → инциденција апоплексије опада за 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553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315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Борба против поремећаја здравља пре њиховог клиничког испољав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тивна медици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 се на поступке који су у опсегу здравствене служ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муниза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емиопрофилак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блем клицонош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ткривање болести скрининг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штита вулнерабилних група становниш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330066"/>
                </a:solidFill>
                <a:latin typeface="Arial"/>
              </a:rPr>
              <a:t>Јавно здравство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Превентивна делатност која је у надлежности целе друштвене заједниц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ивање микробиолошки и хемијски исправне воде за пић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езбедан систем одвођења и третирања отпадних вод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игијенско уклањање смећ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орба против аерозагађења и бу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нтрола производње, ускладиштења и промета животних намирн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ржавање екосистема у стању равнотеж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543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Нивои превенциј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ордијал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ерциј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ордијал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пори да се у одређену средину уопште не унесе штетна навика, обичај или облик понаш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тходи превенциј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ордијал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Циљна група: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обухвата општу популацију тј. здраве грађа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Произашла из епидемиолошких сазнања 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исокој учесталости КВБ у деловима света где исхрана садржи много масти животињског порекла (Финс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иској учесталости КВБ у подручјима где су засићене масти мање заступљене у исхрани (Јапан-чест висок притисак и други фактори ризика за КВ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ар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обухвата општу популацију тј. здраве грађа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тупци који се предузимају пре појаве болести и повреда како до њих уопште не би дош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ктивности усмерене ка унапређењу и очувању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ама примарне превенције снижава се инцид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5-09-10T07:19:03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