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B566-4B19-4ACA-AFDB-5E85E1E85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6D46-2B94-48EC-B8AA-9F7392353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1FC9-F5D2-4EFC-B8B0-6A3D2539D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E2F2-13A3-41EB-B821-20197929B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6D9AF-1B98-4A20-B9D4-8B40AE7B8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E6E7C-87FA-4A82-A86F-2F096A97B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892EF-F73E-49EC-867E-FF9ACA9E5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FC21A-0506-41F2-9681-11C744759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28AD6-0418-49AF-8FCB-FC07D0512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8F33E-FDD6-4028-B62C-2E9C8FAD6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83EDF-68D2-4AE0-B73E-11495A95E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9421-5964-42F9-88F5-CEE515E8B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6E01A-AB10-48D6-9A7B-DE6BE6C4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FB6B9-4564-4634-B1DD-F0C13EC28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22F03-AB4E-41BB-8A97-F8EAA3D37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5194A-2E68-4536-AD17-236606FF3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DEEB5-FDAE-45E4-AB33-4CF45BA18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424F-30E0-4288-BEB8-9ED2E6A18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3269-591B-4D46-BC64-15AE683B8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26AA-3424-43B7-83FA-065203D46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4199-2C83-45B4-8C79-40FF120F1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5910-F29A-4B54-831E-CCF7C18C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3E81-3A1B-46A7-9F88-AF79DC13A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EBF4-9498-4604-BAA0-887B5870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3A867-2CF7-4C67-9F54-6DE872987DF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F56A2-D072-4A0C-AFBC-75664126C97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ПАСИВНА ИМУНИЗАЦИЈ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ФАКУЛТЕТ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МЕДИЦИНСКИХ НАУ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333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АНТИБАКТЕРИЈСКИ серуми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8675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нтистрептококни, антипнеумококни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нтименингококн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наласком сулфонамида и антибиотика губе значај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 имунизацију животиња користиле су се бујонске културе или суспензије мртвих или атенуисаних бактериј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АНТИВИРУСНИ серум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820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тив беснила (анималног порекл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обијен из крви имунизованих коњ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нета готова Ат врше неутрализацију узрочника и успоравају његов пут до ЦН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анас замењен хуманим хиперимуним гамаглобулин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асивна профилакса од беснила обавезна за лица изложена инфекцији вирусом беснила (дефинисана Правилником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АНТИТОКСИЧНИ серум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3640" y="1773000"/>
            <a:ext cx="8569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т према токсинима различитих бактеријских или животињских врс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тив дифтерије, ботулизма, гасне гангрене, змијског уједа, отрова паукова, шкорпиона, отровних риба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АНТИТОКСИЧНИ серум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4920" y="1700280"/>
            <a:ext cx="84978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Поступак добијања антитоксичног серум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Имунизацијом коња, употребом самог токсина или вакцине са антитоксичним антиген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569440" cy="96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АНТИТЕТАНУСНИ серум (антитоксични серум)</a:t>
            </a:r>
            <a:r>
              <a:rPr b="1" lang="sr-CS" sz="3600" spc="-1" strike="noStrike">
                <a:solidFill>
                  <a:srgbClr val="eaeaea"/>
                </a:solidFill>
                <a:latin typeface="Tahoma"/>
              </a:rPr>
              <a:t> користио се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87138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 пасивној имунизацији (серопрофилакса) и терапији обољења (серотерапиј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филактичко дејство антитоксина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неутрализација слободног токсина у крвоток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нема утицаја на токсине везане за тки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давао се што брже, у довољним количина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070840" cy="103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eaeaea"/>
                </a:solidFill>
                <a:uFillTx/>
                <a:latin typeface="Tahoma"/>
              </a:rPr>
              <a:t>АНТИДИФТЕРИЧНИ серум </a:t>
            </a: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8215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ристио се у профилакси и терапији (нпр. деци која нису вакцинисана, а била су у контакту са оболелим дати 5-10000 АЈ и започети вакцинацију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нтибиотска терапија не делује на излучени токсин већ само на проузроковач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eaeaea"/>
                </a:solidFill>
                <a:uFillTx/>
                <a:latin typeface="Tahoma"/>
              </a:rPr>
              <a:t>АНТИДИФТЕРИЧНИ серум </a:t>
            </a:r>
            <a:br>
              <a:rPr sz="3200"/>
            </a:br>
            <a:r>
              <a:rPr b="1" lang="ru-RU" sz="3200" spc="-1" strike="noStrike" u="sng">
                <a:solidFill>
                  <a:srgbClr val="eaeaea"/>
                </a:solidFill>
                <a:uFillTx/>
                <a:latin typeface="Tahoma"/>
              </a:rPr>
              <a:t>(у профилакси и терапији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23640" y="2276280"/>
            <a:ext cx="856908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д 1981. не региструјемо дифтерију у нашој земљ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ољење је очекиван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у подручјима са недовољно развијеном здравственом служб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код пропуста у спровођењу активне имунизациј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АНТИБОТУЛИНСК</a:t>
            </a:r>
            <a:r>
              <a:rPr b="1" lang="sr-CS" sz="3600" spc="-1" strike="noStrike">
                <a:solidFill>
                  <a:srgbClr val="eaeaea"/>
                </a:solidFill>
                <a:latin typeface="Tahoma"/>
              </a:rPr>
              <a:t>И</a:t>
            </a: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 серум</a:t>
            </a:r>
            <a:r>
              <a:rPr b="1" lang="sr-CS" sz="3600" spc="-1" strike="noStrike">
                <a:solidFill>
                  <a:srgbClr val="eaeaea"/>
                </a:solidFill>
                <a:latin typeface="Tahoma"/>
              </a:rPr>
              <a:t> се ретко користи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отулизам је ретка и тешка интоксикациј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ерум се користи у терапиј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ливалентни серум А, Б, Ц → идентификација типа клостридијума → моновалентни серу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Један случај тровања → све особе које су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нзумирале недовољно сушено или сољено месо профилактички примају серу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АНТИГАНГРЕНОЗНИ серум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74560" y="1484280"/>
            <a:ext cx="85694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асна гангрена је у рату најважнија инфекција ране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 терапији обољења поливалентни серу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Хируршка обрада ран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ксигенација тки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нтибиотиц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110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АНТИВИПЕРИНИ серум </a:t>
            </a:r>
            <a:br>
              <a:rPr sz="4000"/>
            </a:b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(против змијског уједа)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640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Змијски отрови или њихови детоксиковани препарати су антигени за добијање анималног серу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 неутрализацију змијског токси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 терапији после ује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исоко специфични против отрова једне врсте змиј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Пасивна имунизациј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545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                                     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ИМУНИТЕ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НЕСПЕЦИФИЧНИ                     СПЕЦИФИЧН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АКТИВНИ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АСИВН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▪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риродни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▫ Природн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оболевање)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трансплацентарно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▪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Вештачки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    ▫ Вештач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вакцинација)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серу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хумани имуноглобулин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AutoShape 7"/>
          <p:cNvSpPr/>
          <p:nvPr/>
        </p:nvSpPr>
        <p:spPr>
          <a:xfrm rot="1868400">
            <a:off x="4787640" y="1699920"/>
            <a:ext cx="1296720" cy="144360"/>
          </a:xfrm>
          <a:prstGeom prst="rightArrow">
            <a:avLst>
              <a:gd name="adj1" fmla="val 50000"/>
              <a:gd name="adj2" fmla="val 224564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AutoShape 8"/>
          <p:cNvSpPr/>
          <p:nvPr/>
        </p:nvSpPr>
        <p:spPr>
          <a:xfrm rot="8874000">
            <a:off x="2986920" y="1699560"/>
            <a:ext cx="1297080" cy="144360"/>
          </a:xfrm>
          <a:prstGeom prst="rightArrow">
            <a:avLst>
              <a:gd name="adj1" fmla="val 50000"/>
              <a:gd name="adj2" fmla="val 224626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AutoShape 9"/>
          <p:cNvSpPr/>
          <p:nvPr/>
        </p:nvSpPr>
        <p:spPr>
          <a:xfrm rot="19816800">
            <a:off x="4788000" y="2636640"/>
            <a:ext cx="718920" cy="144360"/>
          </a:xfrm>
          <a:prstGeom prst="leftArrow">
            <a:avLst>
              <a:gd name="adj1" fmla="val 50000"/>
              <a:gd name="adj2" fmla="val 124501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AutoShape 10"/>
          <p:cNvSpPr/>
          <p:nvPr/>
        </p:nvSpPr>
        <p:spPr>
          <a:xfrm rot="12771000">
            <a:off x="6227640" y="2636640"/>
            <a:ext cx="719280" cy="144360"/>
          </a:xfrm>
          <a:prstGeom prst="leftArrow">
            <a:avLst>
              <a:gd name="adj1" fmla="val 50000"/>
              <a:gd name="adj2" fmla="val 124564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ХУМАНИ ИМУНОГЛОБУЛИНИ (гамаглобулини)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640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теинска фракција серума са предоминацијом глобулина класе 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Ig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адрже антивирусна, антибактеријска и у мањој мери антитоксична А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огу бит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.  стандардни гамаглобулин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.  хиперимуни гамаглобулин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СТАНДАРДНИ гамаглобулини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569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пирогени, стерилни раствор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 плазме најмање 1000 здравих давалаца крви или из интактних плаценти здравих же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скључено је преношење инфекције (вирусни хепатитис А, Б и Ц, ХИВ инфекција и др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 облику 16% раствора садржи најмање два Ат (једно антивирусно и једно антибактеријско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нцентрација Ат је 25 пута већа од концентрације материјала из кога потич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79280" y="549360"/>
            <a:ext cx="89647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СТАНДАРДНИ гамаглобулини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000" y="2133720"/>
            <a:ext cx="83516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иво Ат и њихов међусобни однос зависи од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ширености болести у популациј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ухвата становништва вакцинациј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СТАНДАРДНИ гамаглобулини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6407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ндикација за гамаглобулинску профилаксу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кспозиција осетљивих неимуних особа (морбили, вирусни хепатитис А, рубела, варичела, паротитис)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eaeaea"/>
                </a:solidFill>
                <a:uFillTx/>
                <a:latin typeface="Tahoma"/>
              </a:rPr>
              <a:t>ПАСИВНА ЗАШТИТА КОД МОРБИЛА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86421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муноглобулини дати у првих 6 дана од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ложености инфекцији спречавају болес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ндикације: деца у непосредној опасности од обољења, а постоје контраиндикације за вакцинацију или је прошло 72 часа од изложености (у прва три дана може се дати вакцин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штита породичних контаката и контаката насталих у болницама и дечјим установа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eaeaea"/>
                </a:solidFill>
                <a:uFillTx/>
                <a:latin typeface="Tahoma"/>
              </a:rPr>
              <a:t>ПАСИВНА ЗАШТИТА КОД МОРБИЛА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4247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П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репоручује се </a:t>
            </a:r>
            <a:r>
              <a:rPr b="1" lang="sr-Latn-CS" sz="2800" spc="-1" strike="noStrike" u="sng">
                <a:solidFill>
                  <a:srgbClr val="cc3300"/>
                </a:solidFill>
                <a:uFillTx/>
                <a:latin typeface="Tahoma"/>
              </a:rPr>
              <a:t>код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лица која </a:t>
            </a:r>
            <a:r>
              <a:rPr b="0" lang="sr-Latn-CS" sz="2800" spc="-1" strike="noStrike" u="sng">
                <a:solidFill>
                  <a:srgbClr val="ffffff"/>
                </a:solidFill>
                <a:uFillTx/>
                <a:latin typeface="Tahoma"/>
              </a:rPr>
              <a:t>нису прележала или нису вакцинисана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против малих богиња, а </a:t>
            </a:r>
            <a:r>
              <a:rPr b="0" lang="sr-Latn-CS" sz="2800" spc="-1" strike="noStrike" u="sng">
                <a:solidFill>
                  <a:srgbClr val="ffffff"/>
                </a:solidFill>
                <a:uFillTx/>
                <a:latin typeface="Tahoma"/>
              </a:rPr>
              <a:t>била су у контакту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са оболелим и то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имункомпромитованих код којих постоји трајна </a:t>
            </a:r>
            <a:r>
              <a:rPr b="0" lang="sr-Latn-CS" sz="2800" spc="-1" strike="noStrike" u="sng">
                <a:solidFill>
                  <a:srgbClr val="cc3300"/>
                </a:solidFill>
                <a:uFillTx/>
                <a:latin typeface="Tahoma"/>
              </a:rPr>
              <a:t>контраиндикација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за вакцину против малих богињ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трудниц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Пасивна имунизација се спроводи у </a:t>
            </a:r>
            <a:r>
              <a:rPr b="0" lang="sr-Latn-CS" sz="2800" spc="-1" strike="noStrike" u="sng">
                <a:solidFill>
                  <a:srgbClr val="ffffff"/>
                </a:solidFill>
                <a:uFillTx/>
                <a:latin typeface="Tahoma"/>
              </a:rPr>
              <a:t>периоду до </a:t>
            </a:r>
            <a:r>
              <a:rPr b="0" lang="sr-CS" sz="2800" spc="-1" strike="noStrike" u="sng">
                <a:solidFill>
                  <a:srgbClr val="ffffff"/>
                </a:solidFill>
                <a:uFillTx/>
                <a:latin typeface="Tahoma"/>
              </a:rPr>
              <a:t>6</a:t>
            </a:r>
            <a:r>
              <a:rPr b="0" lang="sr-Latn-CS" sz="2800" spc="-1" strike="noStrike" u="sng">
                <a:solidFill>
                  <a:srgbClr val="ffffff"/>
                </a:solidFill>
                <a:uFillTx/>
                <a:latin typeface="Tahoma"/>
              </a:rPr>
              <a:t> дана након контак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cc3300"/>
                </a:solidFill>
                <a:uFillTx/>
                <a:latin typeface="Tahoma"/>
              </a:rPr>
              <a:t>П</a:t>
            </a:r>
            <a:r>
              <a:rPr b="1" lang="sr-Latn-CS" sz="2800" spc="-1" strike="noStrike" u="sng">
                <a:solidFill>
                  <a:srgbClr val="cc3300"/>
                </a:solidFill>
                <a:uFillTx/>
                <a:latin typeface="Tahoma"/>
              </a:rPr>
              <a:t>репарат садржи </a:t>
            </a:r>
            <a:r>
              <a:rPr b="1" lang="sr-CS" sz="2800" spc="-1" strike="noStrike" u="sng">
                <a:solidFill>
                  <a:srgbClr val="cc3300"/>
                </a:solidFill>
                <a:uFillTx/>
                <a:latin typeface="Tahoma"/>
              </a:rPr>
              <a:t>Ат</a:t>
            </a:r>
            <a:r>
              <a:rPr b="1" lang="sr-Latn-CS" sz="2800" spc="-1" strike="noStrike" u="sng">
                <a:solidFill>
                  <a:srgbClr val="cc3300"/>
                </a:solidFill>
                <a:uFillTx/>
                <a:latin typeface="Tahoma"/>
              </a:rPr>
              <a:t> против малих богињ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1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eaeaea"/>
                </a:solidFill>
                <a:latin typeface="Tahoma"/>
              </a:rPr>
              <a:t>Пасивна профилакса код рубеле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10920" y="1844280"/>
            <a:ext cx="8281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Заштитна вредност се оспора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Различите оцене деловања имуноглобулина потичу од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- разлике у доз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- разлике у садржају антител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- разлике у времену које је протекло од момента изложености до његове примен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eaeaea"/>
                </a:solidFill>
                <a:uFillTx/>
                <a:latin typeface="Tahoma"/>
              </a:rPr>
              <a:t>ПАСИВНА ПРОФИЛАКСА КОД ВАРИЦЕЛЕ И ПАРОТИТИСА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 спречавању интрахоспиталних инфекција на дечјим одељењи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eaeaea"/>
                </a:solidFill>
                <a:uFillTx/>
                <a:latin typeface="Tahoma"/>
              </a:rPr>
              <a:t>ПАСИВНА ПРОФИЛАКСА ПОЛИОМИЈЕЛИТИСА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8964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 увођења ефикасне вакцине редуковала стопу секундарних случајева међу изложени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Tahoma"/>
              </a:rPr>
              <a:t>ХИПЕРИМУНИ ГАМАГЛ0БУЛИНИ</a:t>
            </a:r>
            <a:r>
              <a:rPr b="1" lang="sr-CS" sz="3200" spc="-1" strike="noStrike" u="sng">
                <a:solidFill>
                  <a:srgbClr val="eaeaea"/>
                </a:solidFill>
                <a:uFillTx/>
                <a:latin typeface="Tahoma"/>
              </a:rPr>
              <a:t> (хумани) У ПРОФИЛАКСИ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з крви особа које су вакцинисане против одређених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олести па је ниво специфичних Ат веома висо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Х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мани хиперимунигамаглобулини против тетануса,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еснила и вирусног хепатити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Пасивни имунитет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  <a:ea typeface="Tahoma"/>
              </a:rPr>
              <a:t>В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д специфичне отпорности који настаје уношењем готових антитела природним или вештачким путем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оже бити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природн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вештач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6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Tahoma"/>
              </a:rPr>
              <a:t>ХИПЕРИМУНИ ГАМАГЛ0БУЛИНИ</a:t>
            </a:r>
            <a:r>
              <a:rPr b="1" lang="sr-CS" sz="3200" spc="-1" strike="noStrike" u="sng">
                <a:solidFill>
                  <a:srgbClr val="eaeaea"/>
                </a:solidFill>
                <a:uFillTx/>
                <a:latin typeface="Tahoma"/>
              </a:rPr>
              <a:t> (хумани) У ПРОФИЛАКСИ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2205000"/>
            <a:ext cx="89647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Пасивна профилакса од ТЕТАНУ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50 иј. антитетанусног имуноглобули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Tahoma"/>
              </a:rPr>
              <a:t>ХИПЕРИМУНИ ГАМАГЛ0БУЛИНИ</a:t>
            </a:r>
            <a:r>
              <a:rPr b="1" lang="sr-CS" sz="3200" spc="-1" strike="noStrike" u="sng">
                <a:solidFill>
                  <a:srgbClr val="eaeaea"/>
                </a:solidFill>
                <a:uFillTx/>
                <a:latin typeface="Tahoma"/>
              </a:rPr>
              <a:t> (хумани) У ПРОФИЛАКСИ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640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Индикације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- лица која су потпуно вакцинисана и ревакцинисана против тетануса за свој узраст, а од последње дозе до повреде је прошло више од 10 год. одмах по повређивању добијају 1 дозу вакцине и 250 и.ј. гамаглобули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>
                <a:solidFill>
                  <a:srgbClr val="ffffff"/>
                </a:solidFill>
                <a:latin typeface="Tahoma"/>
              </a:rPr>
              <a:t>Правилник о Програму обавезне и препоручене имунизације становништва против одређених заразних болести (СЛ. гласник РС. бр 65/20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8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Tahoma"/>
              </a:rPr>
              <a:t>ХИПЕРИМУНИ ГАМАГЛ0БУЛИНИ</a:t>
            </a:r>
            <a:r>
              <a:rPr b="1" lang="sr-CS" sz="3200" spc="-1" strike="noStrike" u="sng">
                <a:solidFill>
                  <a:srgbClr val="eaeaea"/>
                </a:solidFill>
                <a:uFillTx/>
                <a:latin typeface="Tahoma"/>
              </a:rPr>
              <a:t> (хумани) У ПРОФИЛАКСИ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Индикације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- лица која нису вакцинисана или су непотпуно вакцинисана или немају доказе о имунизацији против тетануса добијају три дозе антитетанусне вакцине и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Tahoma"/>
              </a:rPr>
              <a:t>хиперимуни антитетанусни гамаглобулин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Tahoma"/>
              </a:rPr>
              <a:t>са првом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 дозом вакцин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>
                <a:solidFill>
                  <a:srgbClr val="ffffff"/>
                </a:solidFill>
                <a:latin typeface="Tahoma"/>
              </a:rPr>
              <a:t>Правилник о Програму обавезне и препоручене имунизације становништва против одређених заразних болести (СЛ. гласник РС. бр 65/20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ahoma"/>
              </a:rPr>
              <a:t>ХТИг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аје се повређеним лици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ја нису вакциниса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ја су непотпуно вакциниса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ја немају доказе о имунизациј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ја су потпуно вакцинисана или ревакцинисана за свој узраст, а од последње дозе (вакцинације или ревакцинације) до повреде је прошло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&gt;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10 год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*  доза: 250 ИЈ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*  ХТИг и вакцина се дају на различита мест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893080" cy="110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Tahoma"/>
              </a:rPr>
              <a:t>ХИПЕРИМУНИ ГАМАГЛ0БУЛИНИ</a:t>
            </a:r>
            <a:r>
              <a:rPr b="1" lang="sr-CS" sz="3200" spc="-1" strike="noStrike" u="sng">
                <a:solidFill>
                  <a:srgbClr val="eaeaea"/>
                </a:solidFill>
                <a:uFillTx/>
                <a:latin typeface="Tahoma"/>
              </a:rPr>
              <a:t> (хумани) У ПРОФИЛАКСИ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28036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Пасивна профилакс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од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ЕСНИЛ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 иј/кг 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телесне тежине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антирабичног имуноглобулина (1/2 у околину ране, 1/2 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у мишић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У складу са вакциналним статусом започети заштиту од тетану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6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Tahoma"/>
              </a:rPr>
              <a:t>ХИПЕРИМУНИ ГАМАГЛ0БУЛИНИ</a:t>
            </a:r>
            <a:r>
              <a:rPr b="1" lang="sr-CS" sz="3200" spc="-1" strike="noStrike" u="sng">
                <a:solidFill>
                  <a:srgbClr val="eaeaea"/>
                </a:solidFill>
                <a:uFillTx/>
                <a:latin typeface="Tahoma"/>
              </a:rPr>
              <a:t> (хумани) У ПРОФИЛАКСИ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9640" y="2204640"/>
            <a:ext cx="8064720" cy="41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Пасивна профилакс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од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ЕСНИЛ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(заштита особа повређених од бесне или на беснило сумњиве животиње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ffffff"/>
                </a:solidFill>
                <a:uFillTx/>
                <a:latin typeface="Tahoma"/>
              </a:rPr>
              <a:t>Истовремено са давањем прве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 дозе вакцине против беснил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Једнократно дати хумани антирабични гамаглобулин (20 иј/кг телесне тежине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96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Tahoma"/>
              </a:rPr>
              <a:t>ХИПЕРИМУНИ ГАМАГЛ0БУЛИНИ</a:t>
            </a:r>
            <a:r>
              <a:rPr b="1" lang="sr-CS" sz="3200" spc="-1" strike="noStrike" u="sng">
                <a:solidFill>
                  <a:srgbClr val="eaeaea"/>
                </a:solidFill>
                <a:uFillTx/>
                <a:latin typeface="Tahoma"/>
              </a:rPr>
              <a:t> (хумани) У ПРОФИЛАКСИ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7915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Пасивна профилакса од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ВИРУСНОГ ХЕПАТИТИСА Б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Н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ворођенчад 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HBsAg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позитивних мајки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, одмах по рођењ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Невакцинисана или непотпуно вакцинисана лица која су имала акцидент са инфективним материјало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Одмах по рођењу, односно акциденту, у количини коју препоручује произвођа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Одмах по утврђеној индикацији за имунопрофилаксу истовремено дати и прву дозу вакцине у супротан екстремите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71640" y="304920"/>
            <a:ext cx="6913440" cy="13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Предности</a:t>
            </a:r>
            <a:r>
              <a:rPr b="1" lang="sr-CS" sz="4000" spc="-1" strike="noStrike">
                <a:solidFill>
                  <a:srgbClr val="eaeaea"/>
                </a:solidFill>
                <a:latin typeface="Tahoma"/>
              </a:rPr>
              <a:t> у заштити имуноглобулинима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дсуство реакције сензибилзациј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уже деловањ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порија елиминациј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нцентрација опада за 1/2 сваких 24 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дан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Заштита се одржава неколико недеља или месец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10920" y="304560"/>
            <a:ext cx="784836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eaeaea"/>
                </a:solidFill>
                <a:latin typeface="Tahoma"/>
              </a:rPr>
              <a:t>ОПРЕЗ у заштити имуноглобулинима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амаглобулине намењене пасивној имунизацији дати искључиво интрамускуларн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нтраваскуларна инокулација је акцидентал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Пасивни имунитет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риродни пасивни имунитет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ношењем Ат мајке (трансплацентарно од 3. месеца интраутериног живота и преко колострума у постнаталном животу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пада и нестаје после 5-6 месеци од рођења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Пасивни имунитет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ештачки пасивни имуните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ношење серума и гамаглобулина (од имуних људи и животињ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ма активног учешћа организма па овај начин стицања отпорности назива се пасивна имунизација или пасивна 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профилак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Пасивна имунизација оправдана код</a:t>
            </a:r>
            <a:r>
              <a:rPr b="1" lang="sr-CS" sz="28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непосредне изложености опасности од инфекције када се:</a:t>
            </a:r>
            <a:br>
              <a:rPr sz="2800"/>
            </a:b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569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ктивни имунитет не изводи или је контраиндикован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варичела, мале богиње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ма довољно времена за продукцију сопствених Ат извођењем активне имунизације (морбили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порност успоставља комбинованом пасивно-активном профилаксом (тетанус, беснило, вирусни хепатитис Б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eaeaea"/>
                </a:solidFill>
                <a:latin typeface="Tahoma"/>
              </a:rPr>
              <a:t>Пасивна имунизација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4247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Имуни серуми (антисеруми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Хумани имуноглобулини (гамаглобулини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-стандардни гамаглобулин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-хиперимуни гамаглобулин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Имуни серуми (антисеруми)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Фракција крви која садржи Ат против одређених проузроковача (токсин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чишћени и концентровани серуми анималног порекла садрже Ат против различитих бактерија и вируса и токсичних продуката неких бактеријских и животињских врс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3640" y="304560"/>
            <a:ext cx="85690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Имуни серуми (антисеруми)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3516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Поступак добијања имуних серум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Техником хиперимунизације животиња (коња најчешће) који обезбеђују велику количину крви и висок титар антител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9:43:28Z</dcterms:created>
  <dc:creator>User</dc:creator>
  <dc:description/>
  <dc:language>en-US</dc:language>
  <cp:lastModifiedBy> </cp:lastModifiedBy>
  <dcterms:modified xsi:type="dcterms:W3CDTF">2020-09-30T09:57:30Z</dcterms:modified>
  <cp:revision>37</cp:revision>
  <dc:subject/>
  <dc:title>Slide 1</dc:title>
</cp:coreProperties>
</file>