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FCE-A94B-4DA2-9D8E-FC1BC34E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A40-583C-4FF1-B1D6-2DD5FF1C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92F3-FAAD-4C52-B930-03062FA4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413-D93E-4D11-B3E3-04ADDD9D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2D0E-E61D-4D19-9365-B44F4090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D7D8-A618-41E5-9DEB-08F4E8B8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330C-E1C6-4DCD-81EF-655AD6B0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2626-D46D-4D87-B0A4-F60092F8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51B6-4B7A-4B63-BF45-1E3FFA2C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DBA7-7EBE-4C60-9017-81528532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E1ED-D106-4814-8FEA-C1D8EC23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954-B424-43FF-8F80-CC3DA550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02B6-7702-4C48-B77F-3348C7F7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A1F3-30EE-4EE6-977C-023522CB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28FC-0A06-46AE-9F4A-854DEEA3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022F-BD60-4287-911E-F3FA5D7B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FC10-A3E2-479E-A0AA-9D66159A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7DF4-960C-4BD4-978A-D97BBA24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20A-A4FA-4DD5-B5E9-C5D8EF14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4546-0828-44D7-9FDB-0916E3D9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85F7-387B-463A-A4E1-80878954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B63-D611-4984-B991-581EAD1A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075-FD97-48FA-A3A7-51573C63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D45B-35A7-458E-9E93-412E18EB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293C-0A04-44BB-BD65-6C4EF97C96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2ED2-4288-4967-99F9-AE4227AC2C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Превенција заразних боле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усмерене прем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утевима пренош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довно прање ру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езбедити довољну количину хигијенски исправне воде за све потребе (пиће, кување, купање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езбедити хигијенске услове за чување, транспорт и обраду намир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градња канализационе мреж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декватно отклањање отпадних материја (комунални отпад, медицински отпад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фикасно сузбијање му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Мере превенције респираторних заразних бол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363760"/>
            <a:ext cx="8229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пецифичне мере превенције респираторних заразних болести већег су значаја у односу на опште ме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резервоарима зара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ткривање резервоара заразе у превенцији респираторних болести код којих постоји хронично клицоноштво (дифтерија, шарлах и друге стрептококозе) тј. истраживање клицоно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прем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утевима ширења заразн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утеви преношења респираторн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апљ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а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иректни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ндиректни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прем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утевима ширења заразн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збегавање груписања људи у затвореним просториј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оветрава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лажно чишћење простор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збегавање пољубаца са инфицираном особ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ање посуђа и прибора за је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ање и дезинфекција играчака (дечја обданишт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потреба папирних марам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прем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улазном мес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аштита улазног м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ошење маски (вишеслојн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Прекривају нос и у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Не носе се дуже од три сата (овлажене не дају заштит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Након употребе се бацај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Никада се поново не кори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ошење заштитних наоч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начајно у спречавању ширења респираторних обољења у болничкој среди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резервоарима зара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зервоар векторске заразне болести животињ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ечење домаћих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ништавање глод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зервоар векторске заразне болести чове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малар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путу зараз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векто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ништавање век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 Превенција болести које се преносе вашима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узбијање вашљивости-елиминација пегавог тифу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путу зараз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векто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ништавање век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Превенција болести које се преносе комарцима (маларија, жута грозница, денга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прскање инсектицидима просторија у којима се налазе људи и животи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исушивање влажних тере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заштита од вектора (мреже на прозорима и вратим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улазном мес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аштита улазног м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Превенција болести које се преносе комарцим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ношење репелената (одбијају инсекте) на кож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ревенција заразних боле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Циљ: онемогућавање настанка услова за појаву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улазном мес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аштита улазног м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Превенција болести које се преносе преко крпеља (Лајмска болест, крпељски менингоенцефалитис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бегавање кретања кроз високу тра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ошење дугих панталона и дугих рук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аскрчивање терена од густе вегетације при камповању и логоровањ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Мере превенције антропозооно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арадња ветеринарске и здравствене служб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мањење учесталости оболевања код животи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Контрола промета животињ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Одржавање хигијенских услова у просторијама где се животиње држ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Вакцин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Леч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пште мере превенције зависе од путева ширења односно од улазног места аген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Мере превенције заразних бол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6240" y="1913040"/>
            <a:ext cx="80038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Опш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пецифич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Опште мере превенције заразних болест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е односе се на једно одређено обоље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ристе се у спречавању појаве св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личне су за обољења која припадају истој групи (према епидемиолошкој класификациј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мерене су према свим карикама ланца инфек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58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Специфичне мере превенције заразних болест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дносе се на превенцију одређене заразн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ухватају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акцинациј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еропрофилак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емиопрофилак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мају највећи значај у превенцији цревн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мерене према окривању резервоа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мерене према путевима преноше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код којих постоји хронично клицоноштво (трбушни тифус, бациларна дизентерија) усмерене прем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откривању резервоара зараз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(клицоноше) у хуманој популациј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ткривање клицоно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ечење клицоно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даљавање клицоноша са радних места (запослени у производњи, преради и дистрибуцији хране или снабдевању становништва водом за пић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код којих постоји хронично клицоноштво усмерене прем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откривању резервоара зараз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(клицоноше) међу животињ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ткривање резервоара (клицонош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ечење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брана коришћења продуката оболелих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усмерене прем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утевима преношења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утеви преношења цревн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р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нсек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5-09-10T07:35:1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